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E4D-8559-4DAA-B5EA-D173CCC9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D50-5222-4277-AB3E-DE90A1B2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CA3-BA9B-43A1-A5BF-5319FE2B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CD8-1403-451C-8E95-BA2DD783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009CF-FDF1-4B6E-AF5D-2063D743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653E8-E959-4C45-AE16-5FC62AD3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EC114-EAFE-4E22-A048-1DB35790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82517-E190-4641-88D4-9076F584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1A11D-EDE9-4436-8A1A-11E8ABEE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6554B-6C4D-4041-A381-C82D6DD4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8FBE7-0E1E-48EC-9449-2171FEB0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CD8-30DD-4497-BA6F-095772D3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5D7DB-7DBC-455E-B3C2-FC65B57F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BB44B-BD02-400D-A5F6-38E37385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2BA1F-1F5F-4040-8553-E7E7EB5E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2D543-96B1-4778-8A23-0CF411F4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4703B-BC8F-431C-B0C6-09D5EA80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AC5-7E46-4979-BE92-5C8B51F0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967-3535-4B0C-9F18-E9FF7E73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ACC5-AED9-4799-A212-3452B0A3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F33-71D8-4152-9362-2BC0A787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B7F-CBE2-40E7-8950-10FF8E94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8F1-ED56-497E-B997-E05B796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683-7E00-440B-B912-EFCECBCD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CDCC-BCC4-4035-8C9E-AFDB665431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68D0-B6E8-46F9-BDF6-2864C36DF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c.gov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onabo Camil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Library of Congres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Liter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loc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2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6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11721" t="9376" r="14065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rcRect l="3127" t="9376" r="3127" b="62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9376" r="0" b="5030"/>
          <a:stretch/>
        </p:blipFill>
        <p:spPr>
          <a:xfrm>
            <a:off x="-304920" y="0"/>
            <a:ext cx="9753840" cy="7010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rcRect l="0" t="9376" r="1562" b="4169"/>
          <a:stretch/>
        </p:blipFill>
        <p:spPr>
          <a:xfrm>
            <a:off x="-15228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783" t="9376" r="2344" b="5207"/>
          <a:stretch/>
        </p:blipFill>
        <p:spPr>
          <a:xfrm>
            <a:off x="0" y="-22860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9376" r="7032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rcRect l="0" t="9376" r="13282" b="4169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rcRect l="0" t="9376" r="10155" b="4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0" t="9376" r="11721" b="4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0" t="9376" r="12500" b="5207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0" t="9376" r="3127" b="6039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15626" t="9376" r="10938" b="50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rcRect l="15626" t="9376" r="11721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rcRect l="15626" t="9376" r="10155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783" t="9376" r="2344" b="4169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11721" t="9376" r="14065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3127" t="9376" r="3127" b="520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11721" t="9376" r="14065" b="4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1721" t="9376" r="14065" b="3125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11721" t="9376" r="14065" b="5070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11721" t="9376" r="13282" b="5207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20:29:46Z</dcterms:created>
  <dc:creator>Microsoft</dc:creator>
  <dc:description/>
  <dc:language>en-US</dc:language>
  <cp:lastModifiedBy>Microsoft</cp:lastModifiedBy>
  <dcterms:modified xsi:type="dcterms:W3CDTF">2011-10-19T21:48:10Z</dcterms:modified>
  <cp:revision>3</cp:revision>
  <dc:subject/>
  <dc:title>Caonabo Camilo</dc:title>
</cp:coreProperties>
</file>